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476-E2D2-4D4C-B37B-89494208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65D89D8-978D-4180-99A9-BFAFC882F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C30F7B8-68E3-4483-8367-3BA7CB2C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1FC602B-7385-40D5-97CD-64DEAC53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007-EFF1-48C1-BD9A-61789CAA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181-5DCB-4381-871E-7F20AFB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3EB-2976-4354-A507-139FF8D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5C5-978B-4E00-88D1-5D5BA2D4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E79-D9D0-45B8-8AA8-15426372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B0E-B2A8-4035-A834-159A59F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10F-875D-4C18-AD04-2F43DF1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32A-81D1-46A4-8E93-7A99CF60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303-6711-4852-86D4-F5D0597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830-F494-42B9-B8C7-F4E0CEA3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069-B2F2-4F05-B3A3-D79BB90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5E2-716F-423E-8E90-9952D13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2A8C-C7E0-42DB-B333-33ECA4D0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Welcome to Leaksville Spray Element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Technology La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obbledegook"/>
              </a:rPr>
              <a:t>Mrs. Williams, Instructo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10552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ting and drinking are NOT allowed at your compu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CANDY OR GUM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2514600"/>
            <a:ext cx="3885480" cy="3276000"/>
            <a:chOff x="685800" y="2514600"/>
            <a:chExt cx="3885480" cy="3276000"/>
          </a:xfrm>
        </p:grpSpPr>
        <p:grpSp>
          <p:nvGrpSpPr>
            <p:cNvPr id="72" name=""/>
            <p:cNvGrpSpPr/>
            <p:nvPr/>
          </p:nvGrpSpPr>
          <p:grpSpPr>
            <a:xfrm>
              <a:off x="685800" y="2514600"/>
              <a:ext cx="3885480" cy="3276000"/>
              <a:chOff x="685800" y="2514600"/>
              <a:chExt cx="3885480" cy="3276000"/>
            </a:xfrm>
          </p:grpSpPr>
          <p:pic>
            <p:nvPicPr>
              <p:cNvPr id="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3080" y="2514600"/>
                <a:ext cx="2914200" cy="320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85800" y="2514600"/>
                <a:ext cx="3885480" cy="3276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333080" y="2766960"/>
              <a:ext cx="2374920" cy="251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181480" y="2133720"/>
            <a:ext cx="3428640" cy="3657240"/>
            <a:chOff x="5181480" y="2133720"/>
            <a:chExt cx="3428640" cy="36572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922360" y="2508480"/>
              <a:ext cx="1903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81480" y="2133720"/>
              <a:ext cx="3428640" cy="3657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830200" y="2414880"/>
              <a:ext cx="2038320" cy="290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lstar"/>
              </a:rPr>
              <a:t>In the Event of a Fire Drill and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bject 3" descr=""/>
          <p:cNvPicPr/>
          <p:nvPr/>
        </p:nvPicPr>
        <p:blipFill>
          <a:blip r:embed="rId1"/>
          <a:stretch/>
        </p:blipFill>
        <p:spPr>
          <a:xfrm>
            <a:off x="766800" y="1981080"/>
            <a:ext cx="3647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turn off the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 sure to push your chairs in when you are leav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ave quickly and carefully using the route your computer teacher has instructed you to u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No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 to be safe on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’t access non-school e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 DOWNLO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ing is a technology priority.  Keep your eyes on your screen and don’t bother people sitting around you.  They are trying to get their work don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46360" y="2286000"/>
            <a:ext cx="56512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mudge"/>
              </a:rPr>
              <a:t>Three Strikes (CPU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mudge"/>
              </a:rPr>
              <a:t>“Your r r r Ou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1523880"/>
            <a:ext cx="58672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irst Time and Second time-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Third Time- break away from computer.  Sig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mudge"/>
              </a:rPr>
              <a:t>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ourth Time-non participation in classroom activities – Removed from computer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Fifth Office Refer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j0398251"/>
          <p:cNvPicPr/>
          <p:nvPr/>
        </p:nvPicPr>
        <p:blipFill>
          <a:blip r:embed="rId1"/>
          <a:stretch/>
        </p:blipFill>
        <p:spPr>
          <a:xfrm>
            <a:off x="6324480" y="1066680"/>
            <a:ext cx="2287800" cy="244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476440" cy="2476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</a:rPr>
              <a:t>Restroom Bre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Your teacher should have given you time to use restroom before coming to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You will not be allowed to use the bathroom during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mudge"/>
              </a:rPr>
              <a:t>Raise your hand to get permission to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6781680" y="990720"/>
            <a:ext cx="1905120" cy="1904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MCj01041860000[1]"/>
          <p:cNvPicPr/>
          <p:nvPr/>
        </p:nvPicPr>
        <p:blipFill>
          <a:blip r:embed="rId1"/>
          <a:stretch/>
        </p:blipFill>
        <p:spPr>
          <a:xfrm>
            <a:off x="7086600" y="1219320"/>
            <a:ext cx="127152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4120" y="3962520"/>
            <a:ext cx="340668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ways use your computer class time wisely.  Getting assignments/projects done on time will greatly effect your gra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7246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 RESPECTFUL, RESPONIBLE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TO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43280" y="2362320"/>
            <a:ext cx="525780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8680" y="457200"/>
            <a:ext cx="77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e to class ready to lear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ome into the la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487680" cy="41148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4" name=""/>
          <p:cNvSpPr/>
          <p:nvPr/>
        </p:nvSpPr>
        <p:spPr>
          <a:xfrm>
            <a:off x="4876920" y="37339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alk (don’t run) to your s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523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UIET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t Orange"/>
              </a:rPr>
              <a:t>Do not ba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t Orange"/>
              </a:rPr>
              <a:t>on keyboar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3276720" cy="3268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172200" y="1066680"/>
            <a:ext cx="1752480" cy="1752840"/>
          </a:xfrm>
          <a:prstGeom prst="cloudCallout">
            <a:avLst>
              <a:gd name="adj1" fmla="val -64129"/>
              <a:gd name="adj2" fmla="val 839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uch…That hu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533520"/>
            <a:ext cx="80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e the equipment prope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give care to all compon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eadphones, mouse, etc…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port problems immediat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 sure you close all windows, log out and push in your chair when you le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04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t ONLY with permis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 only the computer you are assigned to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o not save to the hard drive (C:)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f your computer or Dropbox unless specified by 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9480" y="2590920"/>
            <a:ext cx="504360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esktop picture, screensavers and other settings on your computer should be left al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6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8:54:26Z</dcterms:created>
  <dc:creator>Topeka Public Schools</dc:creator>
  <dc:description/>
  <dc:language>en-US</dc:language>
  <cp:lastModifiedBy> </cp:lastModifiedBy>
  <dcterms:modified xsi:type="dcterms:W3CDTF">2011-08-13T03:50:48Z</dcterms:modified>
  <cp:revision>16</cp:revision>
  <dc:subject/>
  <dc:title>PowerPoint Presentation</dc:title>
</cp:coreProperties>
</file>